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36E-2348-4ABF-888E-375314F4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5F8-A014-4615-B6DB-0BFBDFD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BD4B-D54B-4D5C-8D20-969D8713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7AF-0C4C-40B4-9A15-1FC39C8D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265-2F09-4303-A806-354152EF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33E-BC1F-4AD1-A7FC-B3B5721A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36C-6401-4B59-98B7-8562AEB6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D76-928A-4F90-8BCF-B7C88C87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7E4-0336-4DFF-A40C-187E2DA2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A5B-637F-4D95-B81D-FA169BA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187-A283-4914-B6E3-B7774E84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CE7-1AFA-48B3-A485-C8BEFB7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6B36-3BBB-4EA1-9511-0918D402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ug&#232;ne_Delacroix" TargetMode="External"/><Relationship Id="rId3" Type="http://schemas.openxmlformats.org/officeDocument/2006/relationships/hyperlink" Target="http://fr.wikipedia.org/wiki/Eug&#232;ne_Delacroi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hyperlink" Target="http://en.wikipedia.org/wiki/File:Georges_bizet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en.wikipedia.org/wiki/File:Hector_Berlioz_Crop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n.wikipedia.org/wiki/File:Claude_Debussy_ca_1908,_foto_av_F&#233;lix_Nadar.jpg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en.wikipedia.org/wiki/File:Jacques_offenbach.jpg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ean-Honor&#233;_Fragonard" TargetMode="External"/><Relationship Id="rId2" Type="http://schemas.openxmlformats.org/officeDocument/2006/relationships/hyperlink" Target="http://forum.wordreference.com/showthread.php?t=182323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en.wikipedia.org/wiki/Antoine_Watteau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en.wikipedia.org/wiki/Jean-Honor&#233;_Fragonard" TargetMode="External"/><Relationship Id="rId7" Type="http://schemas.openxmlformats.org/officeDocument/2006/relationships/hyperlink" Target="http://en.wikipedia.org/wiki/Jean-Honor&#233;_Fragonard" TargetMode="External"/><Relationship Id="rId8" Type="http://schemas.openxmlformats.org/officeDocument/2006/relationships/hyperlink" Target="http://en.wikipedia.org/wiki/Jean-Honor&#233;_Fragonard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en.wikipedia.org/wiki/Eug&#232;ne_Delacroix" TargetMode="External"/><Relationship Id="rId11" Type="http://schemas.openxmlformats.org/officeDocument/2006/relationships/hyperlink" Target="http://en.wikipedia.org/wiki/Eug&#232;ne_Delacroix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n.wikipedia.org/wiki/Claude_Monet" TargetMode="External"/><Relationship Id="rId14" Type="http://schemas.openxmlformats.org/officeDocument/2006/relationships/hyperlink" Target="http://ro.wikipedia.org/wiki/Fi&#537;ier:Paul_cezanne_1861.jpg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hyperlink" Target="http://en.wikipedia.org/wiki/Pierre-Auguste_Renoir" TargetMode="External"/><Relationship Id="rId18" Type="http://schemas.openxmlformats.org/officeDocument/2006/relationships/hyperlink" Target="http://en.wikipedia.org/wiki/Pierre-Auguste_Renoir" TargetMode="External"/><Relationship Id="rId19" Type="http://schemas.openxmlformats.org/officeDocument/2006/relationships/hyperlink" Target="http://en.wikipedia.org/wiki/Pierre-Auguste_Renoir" TargetMode="External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upload.wikimedia.org/wikipedia/commons/c/cb/Paul_Gauguin_11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en.wikipedia.org/wiki/Honor&#233;_de_Balzac" TargetMode="External"/><Relationship Id="rId5" Type="http://schemas.openxmlformats.org/officeDocument/2006/relationships/hyperlink" Target="http://en.wikipedia.org/wiki/Honor&#233;_de_Balzac" TargetMode="External"/><Relationship Id="rId6" Type="http://schemas.openxmlformats.org/officeDocument/2006/relationships/hyperlink" Target="http://en.wikipedia.org/wiki/File:Baudelaire_crop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file://upload.wikimedia.org/wikipedia/commons/0/03/Dumas_pere_print_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en.wikipedia.org/wiki/File:Victor_Hugo_circa_1880.jpg" TargetMode="External"/><Relationship Id="rId11" Type="http://schemas.openxmlformats.org/officeDocument/2006/relationships/image" Target="../media/image20.jpeg"/><Relationship Id="rId12" Type="http://schemas.openxmlformats.org/officeDocument/2006/relationships/hyperlink" Target="http://en.wikipedia.org/wiki/File:Cocteau_1923.jpg" TargetMode="External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File:Jean_de_La_Fontaine.PNG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en.wikipedia.org/wiki/File:Hector_Malot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file://upload.wikimedia.org/wikipedia/commons/f/fe/Moli&#232;re_-_Nicolas_Mignard_%281658%29.jpg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en.wikipedia.org/wiki/File:ChPerrault.jpg" TargetMode="External"/><Relationship Id="rId9" Type="http://schemas.openxmlformats.org/officeDocument/2006/relationships/image" Target="../media/image25.jpeg"/><Relationship Id="rId10" Type="http://schemas.openxmlformats.org/officeDocument/2006/relationships/hyperlink" Target="http://en.wikipedia.org/wiki/File:Marcel_Proust_1900-2.jpg" TargetMode="External"/><Relationship Id="rId11" Type="http://schemas.openxmlformats.org/officeDocument/2006/relationships/image" Target="../media/image26.jpeg"/><Relationship Id="rId12" Type="http://schemas.openxmlformats.org/officeDocument/2006/relationships/hyperlink" Target="http://en.wikipedia.org/wiki/File:Francois_Rabelais_-_Portrait.jpg" TargetMode="External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File:11exupery-inline1-500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en.wikipedia.org/wiki/File:Stendhal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en.wikipedia.org/wiki/File:Jules_Verne.jpg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en.wikipedia.org/wiki/File:Albert_Camus,_gagnant_de_prix_Nobel,_portrait_en_buste,_pos&#233;_au_bureau,_faisant_face_&#224;_gauche,_cigarette_de_tabagisme.jpg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en.wikipedia.org/wiki/File:Frans_Hals_-_Portret_van_Ren&#233;_Descartes.jpg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en.wikipedia.org/wiki/File:Jean-Paul_Sartre_FP.JPG" TargetMode="External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1520" y="5943600"/>
            <a:ext cx="213336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w Cen MT"/>
              </a:rPr>
              <a:t>La Liberté guidant le peuple</a:t>
            </a:r>
            <a:r>
              <a:rPr b="1" lang="en-US" sz="1600" spc="-1" strike="noStrike">
                <a:solidFill>
                  <a:srgbClr val="ffffff"/>
                </a:solidFill>
                <a:latin typeface="Tw Cen MT"/>
              </a:rPr>
              <a:t> d'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w Cen MT"/>
                <a:hlinkClick r:id="rId2"/>
              </a:rPr>
              <a:t>Eugèn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w Cen MT"/>
                <a:hlinkClick r:id="rId3"/>
              </a:rPr>
              <a:t> Delacro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600200"/>
            <a:ext cx="812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One Stroke Script LET"/>
              </a:rPr>
              <a:t>Personnalités marquantes de l'histoire français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One Stroke Script LET"/>
              <a:ea typeface="One Stroke Script LE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04920"/>
            <a:ext cx="601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One Stroke Script LET"/>
              </a:rPr>
              <a:t>Les trois emblèmes du siècle des Lumières avaient a la base de leur ecriture le </a:t>
            </a:r>
            <a:r>
              <a:rPr b="0" lang="en-US" sz="2400" spc="-1" strike="noStrike">
                <a:solidFill>
                  <a:srgbClr val="333399"/>
                </a:solidFill>
                <a:latin typeface="One Stroke Script LET"/>
              </a:rPr>
              <a:t>concept de la raison selon laquelle on satisfaire les idéaux de tolérance et de liberté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764080" cy="320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1308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38480" y="5181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181480"/>
            <a:ext cx="2210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Jacques Rousseau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712-17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864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Vol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94-17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12076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5181480"/>
            <a:ext cx="1828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Montesqu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89-17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5400000">
            <a:off x="5976720" y="3928680"/>
            <a:ext cx="4876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a musi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3962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La France nous a fourni une foule de compositeurs classiques, qui se distinguent en particulier dans le 19ème siè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7600" y="3276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Compos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35268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5562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Georges Bize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8-18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3809880"/>
            <a:ext cx="163836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5867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Hector Berlioz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03-18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3124080"/>
            <a:ext cx="181476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81680" y="4876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laude Debussy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62-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228600"/>
            <a:ext cx="179244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9920" y="17524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acques Offenbach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 (1819-1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447920" y="228600"/>
            <a:ext cx="1904760" cy="2533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22860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aurice Ravel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75-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-1414800" y="2709720"/>
            <a:ext cx="51818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es hé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461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ne Stroke Script LET"/>
              </a:rPr>
              <a:t>Bast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Fișier:Ingres coronation charles vii.jpg"/>
          <p:cNvPicPr/>
          <p:nvPr/>
        </p:nvPicPr>
        <p:blipFill>
          <a:blip r:embed="rId1"/>
          <a:stretch/>
        </p:blipFill>
        <p:spPr>
          <a:xfrm>
            <a:off x="609480" y="457200"/>
            <a:ext cx="425772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86400" y="1295280"/>
            <a:ext cx="2743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One Stroke Script LET"/>
              </a:rPr>
              <a:t>Jeanne d’Arc </a:t>
            </a:r>
            <a:r>
              <a:rPr b="0" lang="en-US" sz="2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est une figure emblématique de l‘histoire de France, connue sous les surnom de « Pucelle d'Orléans »; elle avait des ‘visions’ qui concernaient le guerre de 100 ans. Elle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a été brûlée sur le bû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File:Louis XIV of France.jpg"/>
          <p:cNvPicPr/>
          <p:nvPr/>
        </p:nvPicPr>
        <p:blipFill>
          <a:blip r:embed="rId1"/>
          <a:stretch/>
        </p:blipFill>
        <p:spPr>
          <a:xfrm>
            <a:off x="4419720" y="533520"/>
            <a:ext cx="4019400" cy="571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1447920"/>
            <a:ext cx="312408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One Stroke Script LET"/>
              </a:rPr>
              <a:t>Louis XIV de France</a:t>
            </a:r>
            <a:r>
              <a:rPr b="0" lang="en-US" sz="1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dit le Roi-Soleil,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 a gouverné la France pendant 75 ans (le plus long règne dans l'histoire européenne). Il est celui qui dit ‘L’Etat, c’est moi!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0" rIns="507600" tIns="-489960" bIns="-489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File:Napoleon in His Study.jpg"/>
          <p:cNvPicPr/>
          <p:nvPr/>
        </p:nvPicPr>
        <p:blipFill>
          <a:blip r:embed="rId2"/>
          <a:stretch/>
        </p:blipFill>
        <p:spPr>
          <a:xfrm>
            <a:off x="533520" y="533520"/>
            <a:ext cx="344808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578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60" y="0"/>
            <a:ext cx="108072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960" rIns="507960" tIns="490320" bIns="49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676520"/>
            <a:ext cx="30481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One Stroke Script LET"/>
              </a:rPr>
              <a:t>Napoléon Bonaparte</a:t>
            </a:r>
            <a:r>
              <a:rPr b="0" lang="fr-FR" sz="1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a été le deuxième empereur de la France (le premier était Charlemagne), qui s’est monté</a:t>
            </a:r>
            <a:r>
              <a:rPr b="0" lang="fr-FR" sz="32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sur le trône à la fin de la Révolution française.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143000" y="1752480"/>
            <a:ext cx="6934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One Stroke Script LET"/>
              </a:rPr>
              <a:t>Merci pour votre attention 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One Stroke Script LET"/>
              <a:ea typeface="One Stroke Script LE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8862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1629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One Stroke Script LET"/>
              </a:rPr>
              <a:t>L'histoire française est</a:t>
            </a:r>
            <a:r>
              <a:rPr b="0" lang="en-US" sz="2800" spc="-1" strike="noStrike">
                <a:solidFill>
                  <a:srgbClr val="009999"/>
                </a:solidFill>
                <a:latin typeface="One Stroke Script LET"/>
              </a:rPr>
              <a:t> parse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One Stroke Script LET"/>
                <a:hlinkClick r:id="rId1"/>
              </a:rPr>
              <a:t>é</a:t>
            </a:r>
            <a:r>
              <a:rPr b="0" lang="en-US" sz="2800" spc="-1" strike="noStrike">
                <a:solidFill>
                  <a:srgbClr val="009999"/>
                </a:solidFill>
                <a:latin typeface="One Stroke Script LET"/>
              </a:rPr>
              <a:t> de personnalités remarquables qui ont laissé leurs empreintes en </a:t>
            </a:r>
            <a:r>
              <a:rPr b="0" lang="en" sz="2800" spc="-1" strike="noStrike" u="sng">
                <a:solidFill>
                  <a:srgbClr val="009999"/>
                </a:solidFill>
                <a:uFillTx/>
                <a:latin typeface="One Stroke Script LET"/>
                <a:hlinkClick r:id="rId2"/>
              </a:rPr>
              <a:t>même temps </a:t>
            </a:r>
            <a:r>
              <a:rPr b="0" lang="en" sz="2800" spc="-1" strike="noStrike">
                <a:solidFill>
                  <a:srgbClr val="009999"/>
                </a:solidFill>
                <a:latin typeface="One Stroke Script LET"/>
              </a:rPr>
              <a:t>dans l’histoire autochtone et univers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13716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9999"/>
                </a:solidFill>
                <a:latin typeface="One Stroke Script LET"/>
              </a:rPr>
              <a:t>Au cours du temps, beaucoup de Fran</a:t>
            </a:r>
            <a:r>
              <a:rPr b="0" lang="fr-FR" sz="2400" spc="-1" strike="noStrike">
                <a:solidFill>
                  <a:srgbClr val="009999"/>
                </a:solidFill>
                <a:latin typeface="One Stroke Script LET"/>
              </a:rPr>
              <a:t>ç</a:t>
            </a:r>
            <a:r>
              <a:rPr b="0" lang="en" sz="2400" spc="-1" strike="noStrike">
                <a:solidFill>
                  <a:srgbClr val="009999"/>
                </a:solidFill>
                <a:latin typeface="One Stroke Script LET"/>
              </a:rPr>
              <a:t>aises </a:t>
            </a:r>
            <a:r>
              <a:rPr b="0" lang="fr-FR" sz="2400" spc="-1" strike="noStrike">
                <a:solidFill>
                  <a:srgbClr val="009999"/>
                </a:solidFill>
                <a:latin typeface="One Stroke Script LET"/>
              </a:rPr>
              <a:t>ont été impliqués</a:t>
            </a:r>
            <a:r>
              <a:rPr b="0" lang="en-US" sz="2400" spc="-1" strike="noStrike">
                <a:solidFill>
                  <a:srgbClr val="009999"/>
                </a:solidFill>
                <a:latin typeface="One Stroke Script LET"/>
              </a:rPr>
              <a:t> dans domaines comment l’art (peinture, musique, théâtre, sculpture), la politique ou la philosophie, et ils se sont notées par leur contribution dans la culture glob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68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5400000">
            <a:off x="-2533680" y="3066840"/>
            <a:ext cx="6324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a pein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8800" cy="12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28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ne Stroke Script LET"/>
              </a:rPr>
              <a:t>Art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63520" y="380880"/>
            <a:ext cx="170820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1828800"/>
            <a:ext cx="1828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4"/>
              </a:rPr>
              <a:t>Antoine Wattea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One Stroke Script LET"/>
              </a:rPr>
              <a:t> (1684–17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50800" y="2971800"/>
            <a:ext cx="1701720" cy="225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4343400"/>
            <a:ext cx="18288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6"/>
              </a:rPr>
              <a:t>Jean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7"/>
              </a:rPr>
              <a:t>Honoré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8"/>
              </a:rPr>
              <a:t> Fragonard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32–180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895480" y="4343400"/>
            <a:ext cx="1548000" cy="21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5257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670720"/>
            <a:ext cx="1752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0"/>
              </a:rPr>
              <a:t>Eugè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1"/>
              </a:rPr>
              <a:t> Delacroix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98–186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5562720" y="335268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5486400"/>
            <a:ext cx="205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3"/>
              </a:rPr>
              <a:t>Claude Mone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One Stroke Script LET"/>
              </a:rPr>
              <a:t> (1840–19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581280" y="152280"/>
            <a:ext cx="1528920" cy="222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8128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Paul Cézan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9-19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5834160" y="304920"/>
            <a:ext cx="1976400" cy="243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91320" y="1600200"/>
            <a:ext cx="1523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7"/>
              </a:rPr>
              <a:t>Pierre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8"/>
              </a:rPr>
              <a:t>August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9"/>
              </a:rPr>
              <a:t> Renoir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41–19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0560" cy="518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șier:Paul Gauguin 11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457200"/>
            <a:ext cx="422892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52578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One Stroke Script LET"/>
              </a:rPr>
              <a:t>Van Gogh et Paul Gauguin étaient des amis, et se sont installés dans le sud de la France. Ici, ils ont eu une altercation, qui a conduit à la fameuse attaque de démence de Van Gogh, après quoi il a coupé son ore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5400000">
            <a:off x="-2557800" y="3243240"/>
            <a:ext cx="6095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es aut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6035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One Stroke Script LET"/>
              </a:rPr>
              <a:t>La majorité des curentes littéraires sont nées e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33560" cy="1835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152388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La literatu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française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est bien connait par sa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divers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228600"/>
            <a:ext cx="1904760" cy="241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2209680"/>
            <a:ext cx="2057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4"/>
              </a:rPr>
              <a:t>Honoré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5"/>
              </a:rPr>
              <a:t> de Balzac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99-18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200400"/>
            <a:ext cx="183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Baudelai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21-18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File:Dumas pere print 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3886200"/>
            <a:ext cx="1962000" cy="241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802-187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lexandre D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358128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67280" y="54864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Victor Hugo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02-18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380880"/>
            <a:ext cx="2095560" cy="261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29400" y="25146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Cocteau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89-19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2320" y="457200"/>
            <a:ext cx="1976760" cy="252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2133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de La Fontai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621-16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90760" y="762120"/>
            <a:ext cx="1928880" cy="2657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30481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Hector Malo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0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1440" y="328608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1440" y="328608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File:Molière - Nicolas Mignard (1658)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46920" y="533520"/>
            <a:ext cx="1993680" cy="254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86600" y="2590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olière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22-16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3505320"/>
            <a:ext cx="1947600" cy="281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867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Perraul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628-17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97360" y="3809880"/>
            <a:ext cx="1738080" cy="2595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60357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arcel Prous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71-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38680" y="3657600"/>
            <a:ext cx="209556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91320" y="5638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7913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François Rabelai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494-155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609480"/>
            <a:ext cx="19908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51460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ntoine de Saint-Exupéry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00-194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304920"/>
            <a:ext cx="2095560" cy="2714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8120" y="2590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Stendhal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783-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38680" y="457200"/>
            <a:ext cx="2076480" cy="2895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28954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ules Ver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28-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373392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58672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lbert Camu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13-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124080" y="3581280"/>
            <a:ext cx="2178000" cy="266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René Descarte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596-16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38862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86400" y="60357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-Paul Sart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05-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2:12:38Z</dcterms:created>
  <dc:creator>Ioana</dc:creator>
  <dc:description/>
  <dc:language>en-US</dc:language>
  <cp:lastModifiedBy>Ioana</cp:lastModifiedBy>
  <dcterms:modified xsi:type="dcterms:W3CDTF">2012-05-05T20:09:45Z</dcterms:modified>
  <cp:revision>14</cp:revision>
  <dc:subject/>
  <dc:title>Slide 1</dc:title>
</cp:coreProperties>
</file>